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F9B9-703C-41CE-B34E-506EF583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5DF2-B057-4901-B94A-15AE7A5E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7FB-A7DA-46BC-B2AF-CAC12A4C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3E2-61C6-44AE-B5C0-C9F68EAA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E21-3801-4168-AE31-28C637AA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8D0-DC78-4DC9-BCED-B25D43DF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3D8-7CFB-40DB-822B-10135602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4CE-00D1-4C16-8830-B227364A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25BF-2CF6-4BD1-BF4B-40BA4A7E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07B-AC74-4683-B9C0-FD10D32A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E7A-4129-49A7-9E45-27B7DCC8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F60-FBEA-47EF-9F46-9B161D1E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7784-BD01-4931-93FD-A420BB2F3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6858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RATIONA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26668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FUNCTION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04920" y="2514600"/>
            <a:ext cx="830556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09480" y="47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 rational function is a function of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1143000" y="5308560"/>
                <a:ext cx="281952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 Box 7"/>
          <p:cNvSpPr/>
          <p:nvPr/>
        </p:nvSpPr>
        <p:spPr>
          <a:xfrm>
            <a:off x="4800600" y="56386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where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re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0"/>
              <p:cNvSpPr txBox="1"/>
              <p:nvPr/>
            </p:nvSpPr>
            <p:spPr>
              <a:xfrm>
                <a:off x="0" y="2819520"/>
                <a:ext cx="415908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Text Box 5"/>
          <p:cNvSpPr/>
          <p:nvPr/>
        </p:nvSpPr>
        <p:spPr>
          <a:xfrm>
            <a:off x="4114800" y="914400"/>
            <a:ext cx="502920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greater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not a horizontal asymptote, but an oblique one.  The equation is found by doing long division and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quotient is the equation of the oblique asymptot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ignoring the rema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 flipV="1">
            <a:off x="2057040" y="3733920"/>
            <a:ext cx="15228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905120" y="95400"/>
            <a:ext cx="58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OBLIQUE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"/>
          <p:cNvSpPr/>
          <p:nvPr/>
        </p:nvSpPr>
        <p:spPr>
          <a:xfrm flipH="1">
            <a:off x="1676520" y="2438280"/>
            <a:ext cx="380880" cy="45720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0"/>
          <p:cNvGrpSpPr/>
          <p:nvPr/>
        </p:nvGrpSpPr>
        <p:grpSpPr>
          <a:xfrm>
            <a:off x="133200" y="5562360"/>
            <a:ext cx="4819680" cy="617760"/>
            <a:chOff x="133200" y="5562360"/>
            <a:chExt cx="4819680" cy="617760"/>
          </a:xfrm>
        </p:grpSpPr>
        <mc:AlternateContent>
          <mc:Choice xmlns:a14="http://schemas.microsoft.com/office/drawing/2010/main" Requires="a14">
            <p:sp>
              <p:nvSpPr>
                <p:cNvPr id="206" name="Object 2"/>
                <p:cNvSpPr txBox="1"/>
                <p:nvPr/>
              </p:nvSpPr>
              <p:spPr>
                <a:xfrm>
                  <a:off x="1981080" y="5638680"/>
                  <a:ext cx="28800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Line 40"/>
            <p:cNvSpPr/>
            <p:nvPr/>
          </p:nvSpPr>
          <p:spPr>
            <a:xfrm flipV="1">
              <a:off x="1981080" y="5562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41"/>
            <p:cNvSpPr/>
            <p:nvPr/>
          </p:nvSpPr>
          <p:spPr>
            <a:xfrm>
              <a:off x="1981080" y="556272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3"/>
                <p:cNvSpPr txBox="1"/>
                <p:nvPr/>
              </p:nvSpPr>
              <p:spPr>
                <a:xfrm>
                  <a:off x="133200" y="5638680"/>
                  <a:ext cx="182880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1"/>
              <p:cNvSpPr txBox="1"/>
              <p:nvPr/>
            </p:nvSpPr>
            <p:spPr>
              <a:xfrm>
                <a:off x="3505320" y="5029200"/>
                <a:ext cx="3276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 remainde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Line 45"/>
          <p:cNvSpPr/>
          <p:nvPr/>
        </p:nvSpPr>
        <p:spPr>
          <a:xfrm>
            <a:off x="7543800" y="41911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6"/>
          <p:cNvSpPr/>
          <p:nvPr/>
        </p:nvSpPr>
        <p:spPr>
          <a:xfrm>
            <a:off x="6248520" y="5638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7"/>
          <p:cNvSpPr/>
          <p:nvPr/>
        </p:nvSpPr>
        <p:spPr>
          <a:xfrm flipH="1">
            <a:off x="6781680" y="3886200"/>
            <a:ext cx="1981440" cy="129528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8"/>
          <p:cNvSpPr/>
          <p:nvPr/>
        </p:nvSpPr>
        <p:spPr>
          <a:xfrm>
            <a:off x="5105520" y="5791320"/>
            <a:ext cx="312408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que asymptote 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1"/>
          <p:cNvSpPr/>
          <p:nvPr/>
        </p:nvSpPr>
        <p:spPr>
          <a:xfrm>
            <a:off x="3429000" y="4952880"/>
            <a:ext cx="91440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2"/>
          <p:cNvSpPr/>
          <p:nvPr/>
        </p:nvSpPr>
        <p:spPr>
          <a:xfrm>
            <a:off x="4343400" y="5410080"/>
            <a:ext cx="99072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28600" y="380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 Black"/>
              </a:rPr>
              <a:t>SUMMARY OF HOW TO FIND ASYMPT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ertical Asymptotes are the values that are NOT in the domain.  To find them, set the denominator = 0 and so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20" y="2514600"/>
            <a:ext cx="8610480" cy="3957120"/>
          </a:xfrm>
          <a:prstGeom prst="rect">
            <a:avLst/>
          </a:prstGeom>
          <a:noFill/>
          <a:ln cap="rnd" w="76320">
            <a:solidFill>
              <a:srgbClr val="33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o determine horizontal or oblique asymptotes, compare the degrees of the numerator and denomin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lt; the bottom, horizontal asymptote along th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axis (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= bottom, horizontal asymptote at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leading coefficient of top over 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gt; the bottom, oblique asymptote found by long di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6019920" y="304920"/>
                <a:ext cx="28191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Text Box 3"/>
          <p:cNvSpPr/>
          <p:nvPr/>
        </p:nvSpPr>
        <p:spPr>
          <a:xfrm>
            <a:off x="304920" y="4572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hat would the domain of a rational function b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57200" y="1447920"/>
            <a:ext cx="5410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We’d need to make sure the denominator </a:t>
            </a:r>
            <a:r>
              <a:rPr b="1" lang="en-US" sz="2800" spc="-1" strike="noStrike">
                <a:solidFill>
                  <a:srgbClr val="996633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7696080" y="1066680"/>
            <a:ext cx="11430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124080" y="1600200"/>
            <a:ext cx="4419720" cy="45720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380880" y="2438280"/>
                <a:ext cx="2286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Line 9"/>
          <p:cNvSpPr/>
          <p:nvPr/>
        </p:nvSpPr>
        <p:spPr>
          <a:xfrm flipH="1">
            <a:off x="2133360" y="2286000"/>
            <a:ext cx="228600" cy="83808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971800" y="2819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d the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5340240" y="2743200"/>
                <a:ext cx="3157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AutoShape 12"/>
          <p:cNvSpPr/>
          <p:nvPr/>
        </p:nvSpPr>
        <p:spPr>
          <a:xfrm>
            <a:off x="1523880" y="3200400"/>
            <a:ext cx="11430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533520" y="1905120"/>
            <a:ext cx="259056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304920" y="3886200"/>
                <a:ext cx="38210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AutoShape 15"/>
          <p:cNvSpPr/>
          <p:nvPr/>
        </p:nvSpPr>
        <p:spPr>
          <a:xfrm>
            <a:off x="1676520" y="4533840"/>
            <a:ext cx="2514600" cy="5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905120" y="2286000"/>
            <a:ext cx="457200" cy="213372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7"/>
              <p:cNvSpPr txBox="1"/>
              <p:nvPr/>
            </p:nvSpPr>
            <p:spPr>
              <a:xfrm>
                <a:off x="4419720" y="4114800"/>
                <a:ext cx="43815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8"/>
              <p:cNvSpPr txBox="1"/>
              <p:nvPr/>
            </p:nvSpPr>
            <p:spPr>
              <a:xfrm>
                <a:off x="457200" y="5181480"/>
                <a:ext cx="34084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19"/>
          <p:cNvSpPr/>
          <p:nvPr/>
        </p:nvSpPr>
        <p:spPr>
          <a:xfrm>
            <a:off x="4267080" y="47242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you can’t see it in your head, set the denominator = 0 and factor to find “illegal”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0"/>
              <p:cNvSpPr txBox="1"/>
              <p:nvPr/>
            </p:nvSpPr>
            <p:spPr>
              <a:xfrm>
                <a:off x="1219320" y="6313320"/>
                <a:ext cx="252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2"/>
              <p:cNvSpPr txBox="1"/>
              <p:nvPr/>
            </p:nvSpPr>
            <p:spPr>
              <a:xfrm>
                <a:off x="4508640" y="6140520"/>
                <a:ext cx="4635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533520" y="262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e graph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ooks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2666880" y="0"/>
                <a:ext cx="1600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666880" cy="197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5410080" y="1143000"/>
            <a:ext cx="2895840" cy="2149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501480" y="48466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Since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0, the graph approaches 0 but never crosses or touches 0.  A vertical line drawn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= 0 is called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vertical asymptote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.  It is a sketching aid to figure out the graph of a rational function.  There will be a vertical asymptote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values that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>
            <a:off x="1781280" y="1033560"/>
            <a:ext cx="11160" cy="2282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6858000" y="990720"/>
            <a:ext cx="11160" cy="2511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362320" y="3657600"/>
            <a:ext cx="67816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If you choose x values close to 0, the graph gets close to the asymptote, but never touch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et’s consider the gra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024"/>
              <p:cNvSpPr txBox="1"/>
              <p:nvPr/>
            </p:nvSpPr>
            <p:spPr>
              <a:xfrm>
                <a:off x="4313160" y="10152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Text Box 6"/>
          <p:cNvSpPr/>
          <p:nvPr/>
        </p:nvSpPr>
        <p:spPr>
          <a:xfrm>
            <a:off x="60948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e recognize this function as the reciprocal function from our “library” of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5448240" y="20574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304920" y="2286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n you see the vertical asymptot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>
            <a:off x="7300800" y="18684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80880" y="2743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Let’s see why the graph looks like it does near 0 by putting in some numbers close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025"/>
              <p:cNvSpPr txBox="1"/>
              <p:nvPr/>
            </p:nvSpPr>
            <p:spPr>
              <a:xfrm>
                <a:off x="228600" y="3962520"/>
                <a:ext cx="2133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026"/>
              <p:cNvSpPr txBox="1"/>
              <p:nvPr/>
            </p:nvSpPr>
            <p:spPr>
              <a:xfrm>
                <a:off x="144360" y="5532480"/>
                <a:ext cx="25146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027"/>
              <p:cNvSpPr txBox="1"/>
              <p:nvPr/>
            </p:nvSpPr>
            <p:spPr>
              <a:xfrm>
                <a:off x="2971800" y="5691240"/>
                <a:ext cx="27525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28"/>
              <p:cNvSpPr txBox="1"/>
              <p:nvPr/>
            </p:nvSpPr>
            <p:spPr>
              <a:xfrm>
                <a:off x="5867280" y="5548320"/>
                <a:ext cx="31194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16"/>
          <p:cNvSpPr/>
          <p:nvPr/>
        </p:nvSpPr>
        <p:spPr>
          <a:xfrm>
            <a:off x="2438280" y="38862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he closer to 0 you get for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(from positive direction),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the larger the function value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791320" y="5029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ry some 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Does the function                      have an </a:t>
            </a:r>
            <a:r>
              <a:rPr b="1" i="1" lang="en-US" sz="2400" spc="-1" strike="noStrike">
                <a:solidFill>
                  <a:srgbClr val="996633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 intercep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024"/>
              <p:cNvSpPr txBox="1"/>
              <p:nvPr/>
            </p:nvSpPr>
            <p:spPr>
              <a:xfrm>
                <a:off x="3371760" y="19044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380880" y="12193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re is NOT a value that you can plug in for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that would make the function = 0.  The graph approaches but never crosses the horizontal lin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.  This is called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448240" y="25146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7200" y="31240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graph will NEVER cross a vertical asymptote because the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 is “illegal” (would make the denominator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7300800" y="23256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5"/>
              <p:cNvSpPr txBox="1"/>
              <p:nvPr/>
            </p:nvSpPr>
            <p:spPr>
              <a:xfrm>
                <a:off x="8074080" y="228600"/>
                <a:ext cx="9367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Line 16"/>
          <p:cNvSpPr/>
          <p:nvPr/>
        </p:nvSpPr>
        <p:spPr>
          <a:xfrm>
            <a:off x="5410080" y="39052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4876920" y="2590920"/>
            <a:ext cx="1676160" cy="1218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7200" y="494028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graph may cross a horizontal asymptote near the middle of the graph but will approach it when you move to the far right or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80880" y="457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447920" y="228600"/>
                <a:ext cx="18414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Text Box 6"/>
          <p:cNvSpPr/>
          <p:nvPr/>
        </p:nvSpPr>
        <p:spPr>
          <a:xfrm>
            <a:off x="457200" y="1523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is is just the reciprocal function transformed.  We can trade the terms places to make it easier to see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3352680" y="228600"/>
                <a:ext cx="11001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Oval 8"/>
          <p:cNvSpPr/>
          <p:nvPr/>
        </p:nvSpPr>
        <p:spPr>
          <a:xfrm>
            <a:off x="3962520" y="380880"/>
            <a:ext cx="609480" cy="6098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486400" y="38088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ertical transl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ved 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"/>
          <p:cNvSpPr/>
          <p:nvPr/>
        </p:nvSpPr>
        <p:spPr>
          <a:xfrm flipH="1">
            <a:off x="4647960" y="7621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1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3695760" cy="274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Object 13"/>
              <p:cNvSpPr txBox="1"/>
              <p:nvPr/>
            </p:nvSpPr>
            <p:spPr>
              <a:xfrm>
                <a:off x="838080" y="4952880"/>
                <a:ext cx="12193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4"/>
              <p:cNvSpPr txBox="1"/>
              <p:nvPr/>
            </p:nvSpPr>
            <p:spPr>
              <a:xfrm>
                <a:off x="762120" y="3048120"/>
                <a:ext cx="15238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Text Box 15"/>
          <p:cNvSpPr/>
          <p:nvPr/>
        </p:nvSpPr>
        <p:spPr>
          <a:xfrm>
            <a:off x="4724280" y="2666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vertical asymptote remains the same because in either function, x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≠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2610000" y="2681280"/>
            <a:ext cx="0" cy="37339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4724280" y="45720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horizontal asymptote will move up 3 like the graph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9"/>
          <p:cNvSpPr/>
          <p:nvPr/>
        </p:nvSpPr>
        <p:spPr>
          <a:xfrm>
            <a:off x="304920" y="4019400"/>
            <a:ext cx="4647960" cy="0"/>
          </a:xfrm>
          <a:prstGeom prst="line">
            <a:avLst/>
          </a:prstGeom>
          <a:ln w="38160">
            <a:solidFill>
              <a:srgbClr val="33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971800" y="4572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Finding Asympt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pe01984_"/>
          <p:cNvPicPr/>
          <p:nvPr/>
        </p:nvPicPr>
        <p:blipFill>
          <a:blip r:embed="rId1"/>
          <a:stretch/>
        </p:blipFill>
        <p:spPr>
          <a:xfrm>
            <a:off x="685800" y="0"/>
            <a:ext cx="2673360" cy="1789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 rot="5400000">
            <a:off x="-2415960" y="3633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VERTIC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95280" y="1905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re will be a vertical asymptote at any “illegal”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, so anywhere that would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990720" y="3276720"/>
                <a:ext cx="320040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7"/>
          <p:cNvSpPr/>
          <p:nvPr/>
        </p:nvSpPr>
        <p:spPr>
          <a:xfrm>
            <a:off x="838080" y="49402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et’s set the bottom = 0 and factor and solve to find where the vertical asymptote(s) should 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1905120" y="3938760"/>
                <a:ext cx="27111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Line 8"/>
          <p:cNvSpPr/>
          <p:nvPr/>
        </p:nvSpPr>
        <p:spPr>
          <a:xfrm flipV="1">
            <a:off x="2819520" y="4343040"/>
            <a:ext cx="75960" cy="60948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5181480" y="3124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 there are vertical asymptotes at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4 and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21" name="Line 13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Group 25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24" name="Line 11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2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4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6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17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18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19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21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22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Line 23"/>
          <p:cNvSpPr/>
          <p:nvPr/>
        </p:nvSpPr>
        <p:spPr>
          <a:xfrm>
            <a:off x="7391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6248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0"/>
          <p:cNvSpPr/>
          <p:nvPr/>
        </p:nvSpPr>
        <p:spPr>
          <a:xfrm>
            <a:off x="3886200" y="23623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degree of the numerator is less than the degree of the denominator, (remember degree is the highest power on any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term)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886200" y="2362320"/>
            <a:ext cx="4876920" cy="2478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degree of the numerator is less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  This is along the line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80880" y="685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e compare the degrees of the polynomial in the numerator and the polynomial in the denominator to tell us about horizontal asympt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380880" y="2895480"/>
                <a:ext cx="32004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1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42" name="Line 12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Group 14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45" name="Line 15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6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7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18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9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0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1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2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3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Text Box 26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2362320" y="2743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2057400" y="2438280"/>
            <a:ext cx="45720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5181480" y="5638680"/>
            <a:ext cx="289584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5638680" y="1828800"/>
            <a:ext cx="99072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&l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43"/>
          <p:cNvSpPr/>
          <p:nvPr/>
        </p:nvSpPr>
        <p:spPr>
          <a:xfrm>
            <a:off x="1523880" y="6324480"/>
            <a:ext cx="304920" cy="53352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1"/>
          <p:cNvSpPr/>
          <p:nvPr/>
        </p:nvSpPr>
        <p:spPr>
          <a:xfrm>
            <a:off x="1498680" y="566424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1447920" y="281952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886200" y="914400"/>
            <a:ext cx="5029200" cy="378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equal to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a horizontal asymptote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  leading coefficient of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2057400" y="2438280"/>
            <a:ext cx="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5029200" y="5181480"/>
            <a:ext cx="289548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4495680" y="3048120"/>
            <a:ext cx="4191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0" y="6858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leading coefficient is the number in front of the highest powered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457200" y="5334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8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grpSp>
          <p:nvGrpSpPr>
            <p:cNvPr id="174" name="Group 8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75" name="Line 9"/>
              <p:cNvSpPr/>
              <p:nvPr/>
            </p:nvSpPr>
            <p:spPr>
              <a:xfrm>
                <a:off x="6248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0"/>
              <p:cNvSpPr/>
              <p:nvPr/>
            </p:nvSpPr>
            <p:spPr>
              <a:xfrm>
                <a:off x="7391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Group 11"/>
              <p:cNvGrpSpPr/>
              <p:nvPr/>
            </p:nvGrpSpPr>
            <p:grpSpPr>
              <a:xfrm>
                <a:off x="5105520" y="4572000"/>
                <a:ext cx="2895480" cy="2286000"/>
                <a:chOff x="5105520" y="4572000"/>
                <a:chExt cx="2895480" cy="2286000"/>
              </a:xfrm>
            </p:grpSpPr>
            <p:sp>
              <p:nvSpPr>
                <p:cNvPr id="178" name="Line 12"/>
                <p:cNvSpPr/>
                <p:nvPr/>
              </p:nvSpPr>
              <p:spPr>
                <a:xfrm>
                  <a:off x="6477120" y="4572000"/>
                  <a:ext cx="0" cy="228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13"/>
                <p:cNvSpPr/>
                <p:nvPr/>
              </p:nvSpPr>
              <p:spPr>
                <a:xfrm>
                  <a:off x="5105520" y="5638680"/>
                  <a:ext cx="28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14"/>
                <p:cNvSpPr/>
                <p:nvPr/>
              </p:nvSpPr>
              <p:spPr>
                <a:xfrm>
                  <a:off x="6019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15"/>
                <p:cNvSpPr/>
                <p:nvPr/>
              </p:nvSpPr>
              <p:spPr>
                <a:xfrm>
                  <a:off x="5791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16"/>
                <p:cNvSpPr/>
                <p:nvPr/>
              </p:nvSpPr>
              <p:spPr>
                <a:xfrm>
                  <a:off x="6705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17"/>
                <p:cNvSpPr/>
                <p:nvPr/>
              </p:nvSpPr>
              <p:spPr>
                <a:xfrm>
                  <a:off x="6934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18"/>
                <p:cNvSpPr/>
                <p:nvPr/>
              </p:nvSpPr>
              <p:spPr>
                <a:xfrm>
                  <a:off x="7162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19"/>
                <p:cNvSpPr/>
                <p:nvPr/>
              </p:nvSpPr>
              <p:spPr>
                <a:xfrm>
                  <a:off x="76201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20"/>
                <p:cNvSpPr/>
                <p:nvPr/>
              </p:nvSpPr>
              <p:spPr>
                <a:xfrm>
                  <a:off x="5562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Line 32"/>
            <p:cNvSpPr/>
            <p:nvPr/>
          </p:nvSpPr>
          <p:spPr>
            <a:xfrm>
              <a:off x="6324480" y="5410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6324480" y="5181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6324480" y="4952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Line 35"/>
          <p:cNvSpPr/>
          <p:nvPr/>
        </p:nvSpPr>
        <p:spPr>
          <a:xfrm>
            <a:off x="6324480" y="5867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6324480" y="6095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7"/>
          <p:cNvSpPr/>
          <p:nvPr/>
        </p:nvSpPr>
        <p:spPr>
          <a:xfrm flipV="1">
            <a:off x="2895480" y="5333760"/>
            <a:ext cx="21337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2"/>
          <p:cNvSpPr/>
          <p:nvPr/>
        </p:nvSpPr>
        <p:spPr>
          <a:xfrm>
            <a:off x="1371600" y="3505320"/>
            <a:ext cx="304920" cy="53316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4"/>
          <p:cNvSpPr/>
          <p:nvPr/>
        </p:nvSpPr>
        <p:spPr>
          <a:xfrm>
            <a:off x="13716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5"/>
              <p:cNvSpPr txBox="1"/>
              <p:nvPr/>
            </p:nvSpPr>
            <p:spPr>
              <a:xfrm>
                <a:off x="2006640" y="5994360"/>
                <a:ext cx="727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5"/>
              <p:cNvSpPr txBox="1"/>
              <p:nvPr/>
            </p:nvSpPr>
            <p:spPr>
              <a:xfrm>
                <a:off x="274680" y="2862360"/>
                <a:ext cx="341316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1"/>
              <p:cNvSpPr txBox="1"/>
              <p:nvPr/>
            </p:nvSpPr>
            <p:spPr>
              <a:xfrm>
                <a:off x="762120" y="5670720"/>
                <a:ext cx="11872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04:56:40Z</dcterms:created>
  <dc:creator>Sampson</dc:creator>
  <dc:description/>
  <dc:language>en-US</dc:language>
  <cp:lastModifiedBy>TCDSB</cp:lastModifiedBy>
  <dcterms:modified xsi:type="dcterms:W3CDTF">2014-10-29T15:05:30Z</dcterms:modified>
  <cp:revision>63</cp:revision>
  <dc:subject>Advanced Functions</dc:subject>
  <dc:title>Rational Functions</dc:title>
</cp:coreProperties>
</file>